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30F-C0A0-4DB4-ACCE-6F9ED080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D12-912D-409D-BE4F-47FD8CD6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511-258E-4B05-A9D2-C7974F5F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3B1-7142-4A28-A0BE-1AE373B0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F67-2328-4CBC-B70D-EE1CA13D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2D0-D201-475B-B706-D21ED38F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D29-EC73-4AB5-814F-91B21ADF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CEB-1BCE-4B23-B2D9-A1F5398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93D-9F23-41BC-B213-6BD87A3E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090-92BF-4E70-B3DA-AD756D0A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73A-9665-4FE9-9A72-7C3BE22A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CA9-4937-4775-9777-DE014D85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101520" y="165240"/>
            <a:ext cx="9194400" cy="6692760"/>
            <a:chOff x="101520" y="165240"/>
            <a:chExt cx="9194400" cy="6692760"/>
          </a:xfrm>
        </p:grpSpPr>
        <p:sp>
          <p:nvSpPr>
            <p:cNvPr id="3" name="Rectangle 12"/>
            <p:cNvSpPr/>
            <p:nvPr/>
          </p:nvSpPr>
          <p:spPr>
            <a:xfrm>
              <a:off x="101520" y="165240"/>
              <a:ext cx="623160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" name="Rectangle 13"/>
            <p:cNvSpPr/>
            <p:nvPr/>
          </p:nvSpPr>
          <p:spPr>
            <a:xfrm>
              <a:off x="273240" y="304920"/>
              <a:ext cx="632160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" name="Line 14"/>
            <p:cNvSpPr/>
            <p:nvPr/>
          </p:nvSpPr>
          <p:spPr>
            <a:xfrm>
              <a:off x="16250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843120" y="1079640"/>
              <a:ext cx="845280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7" name="Rectangle 16"/>
          <p:cNvSpPr/>
          <p:nvPr/>
        </p:nvSpPr>
        <p:spPr>
          <a:xfrm>
            <a:off x="6553080" y="6553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0c13"/>
                </a:solidFill>
                <a:latin typeface="Arial"/>
                <a:ea typeface="Arial"/>
              </a:rPr>
              <a:t>Copyright © Allyn &amp; Bacon 2008</a:t>
            </a:r>
            <a:endParaRPr b="0" lang="en-US" sz="1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5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6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7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CE79-62E4-48B7-8DC1-AC4A421340DD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76440" y="3885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523b"/>
                </a:solidFill>
                <a:latin typeface="Arial"/>
              </a:rPr>
              <a:t>Sociology Now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34523b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 Edition (Brief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523b"/>
                </a:solidFill>
                <a:latin typeface="Arial"/>
              </a:rPr>
              <a:t>Kimmel/Aronson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80880" y="624852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0c13"/>
                </a:solidFill>
                <a:latin typeface="Arial"/>
              </a:rPr>
              <a:t>*This multimedia product and its contents are protected under copyright law. The following are prohibited by law: any public performances or display, including transmission of any image over a network; preparation of any derivative work, including the extraction, in whole or in part, of any images; any rental, lease, or lending of the program.</a:t>
            </a:r>
            <a:endParaRPr b="0" lang="en-US" sz="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ocialization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362320" y="2082960"/>
            <a:ext cx="4076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c13"/>
                </a:solidFill>
                <a:latin typeface="Arial"/>
              </a:rPr>
              <a:t>What Is Sociology?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6629400" y="990720"/>
            <a:ext cx="12445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70c13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572000" y="12193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c h a p t 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Picture 16" descr="Kimmel Brief cover"/>
          <p:cNvPicPr/>
          <p:nvPr/>
        </p:nvPicPr>
        <p:blipFill>
          <a:blip r:embed="rId1"/>
          <a:stretch/>
        </p:blipFill>
        <p:spPr>
          <a:xfrm>
            <a:off x="7035840" y="2247840"/>
            <a:ext cx="1701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About how often do you pray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everal times a da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Once a da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everal times a week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Once a week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Less than once a week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from What Do You Think? box in text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1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o you think most people would try to take advantage of you if they got a chance, or would they try to be fair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Take advantag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Be fair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*included in Instructor’s Manual only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2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f someone says that a person is “hardwired” to behave a certain way, what are they referring to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ocial environmen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ur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3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816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Manifest functions of higher education have changed over time.   Which of the following is a </a:t>
            </a:r>
            <a:r>
              <a:rPr b="1" i="1" lang="en-US" sz="2400" spc="-1" strike="noStrike">
                <a:solidFill>
                  <a:srgbClr val="070c13"/>
                </a:solidFill>
                <a:latin typeface="Arial"/>
              </a:rPr>
              <a:t>manifest function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of higher education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enhanced citizenship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rerequisite for getting a good job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escape from parental contro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ew pool of quality dating partner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4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38000" y="1523880"/>
            <a:ext cx="5613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In the context of globalization, “McDonaldization” refers to what aspect of modern social life?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worldview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fast foo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ecline of religios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70c1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onsumerism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885960" y="-12600"/>
            <a:ext cx="59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Broadway"/>
              </a:rPr>
              <a:t>Question #5</a:t>
            </a:r>
            <a:endParaRPr b="0" lang="en-US" sz="6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3:21:37Z</dcterms:created>
  <dc:creator>TRIO</dc:creator>
  <dc:description/>
  <dc:language>en-US</dc:language>
  <cp:lastModifiedBy>NuNiTo</cp:lastModifiedBy>
  <dcterms:modified xsi:type="dcterms:W3CDTF">2012-02-21T04:28:33Z</dcterms:modified>
  <cp:revision>9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